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CFB3-1B5C-4984-8C53-AD2539316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BA2E-4A46-4D5F-8B81-A9EF7E3F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CA24-E0A3-48C9-89BC-C9B44514D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037E-98FC-40F3-8880-53E47D3E1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1E1A-F9C2-4BA4-A9F8-BEE3CB60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DEC1-7E85-458E-A9DE-8CC214A3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5715-3C14-4BF8-B4BD-25722C34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63ED-6A0E-456B-834D-BDBAE786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A2F3-CD5E-44CE-8ACC-7D2108D9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4574-5FDB-44CF-8780-23F0B826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DE5B-C662-4DA2-BD95-C62D41DE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8B15-3595-4E57-97C2-2B5BFDB3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3D2B-44D7-4B91-8CFE-ECF2ED69C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5000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izabeth Daw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ter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469200">
            <a:off x="7620120" y="0"/>
            <a:ext cx="1523880" cy="2590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772400" y="2590920"/>
            <a:ext cx="1371600" cy="22096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96080" y="4800600"/>
            <a:ext cx="1447920" cy="2057400"/>
          </a:xfrm>
          <a:prstGeom prst="ellipse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19920" y="0"/>
            <a:ext cx="1523880" cy="2362320"/>
          </a:xfrm>
          <a:prstGeom prst="ellipse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6095880" y="3200400"/>
            <a:ext cx="1828800" cy="13716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48320" y="0"/>
            <a:ext cx="1371600" cy="2514600"/>
          </a:xfrm>
          <a:prstGeom prst="ellipse">
            <a:avLst/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24480" y="4952880"/>
            <a:ext cx="1371600" cy="190512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4343400"/>
            <a:ext cx="1371600" cy="251460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4495680"/>
            <a:ext cx="1218960" cy="2362320"/>
          </a:xfrm>
          <a:prstGeom prst="ellipse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0"/>
            <a:ext cx="1676520" cy="259092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4419720"/>
            <a:ext cx="1676520" cy="243828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380880"/>
            <a:ext cx="1295280" cy="2057400"/>
          </a:xfrm>
          <a:prstGeom prst="ellipse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800600"/>
            <a:ext cx="1295280" cy="2057400"/>
          </a:xfrm>
          <a:prstGeom prst="ellipse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2666880"/>
            <a:ext cx="1295640" cy="205740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29000"/>
            <a:ext cx="14475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__/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=‘.’=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“)_(“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8:14:13Z</dcterms:created>
  <dc:creator>USER</dc:creator>
  <dc:description/>
  <dc:language>en-US</dc:language>
  <cp:lastModifiedBy>sdawson</cp:lastModifiedBy>
  <dcterms:modified xsi:type="dcterms:W3CDTF">2011-04-04T18:41:20Z</dcterms:modified>
  <cp:revision>4</cp:revision>
  <dc:subject/>
  <dc:title>Elizabeth Dawson</dc:title>
</cp:coreProperties>
</file>